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6D71-E61A-45D1-8952-E8947C4EA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98AE-3F28-4C5A-99FC-116DED52C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79A4-3FDE-4C3B-A298-CF10E7DB4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723B-AEF6-4F0E-AD32-F6B6A20CF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2196-0100-4BD1-9769-3421E59B7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6E94-DD78-48B9-A5D0-FD75C6240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1BAB-717B-4C86-A0E4-1079B565B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48CC-5FDF-4514-BB70-69CE0F136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A954-20EA-4F6F-B55A-52864AB72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4507-8615-4E3A-B0A6-A41037ED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DBD7-5E30-4B57-A1BD-C15FD36D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41C3-BA03-4DBC-AD68-38C81247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29FC9-53D3-4ACA-A731-828E070E78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Calibri"/>
              </a:rPr>
              <a:t>Chemical Reacti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Calibri"/>
              </a:rPr>
              <a:t>Reaction Ra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Calibri"/>
              </a:rPr>
              <a:t>Chemical reactions occur at different speeds.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Calibri"/>
              </a:rPr>
              <a:t>Baking soda and vineg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Calibri"/>
              </a:rPr>
              <a:t>Decomposition of carbon compou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Some reactions take fractions of a second to finish and others can take millions of yea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Calibri"/>
              </a:rPr>
              <a:t>Ignition of trinitrotolue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Calibri"/>
              </a:rPr>
              <a:t>Half-life dec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Calibri"/>
              </a:rPr>
              <a:t>Chemical Reacti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Calibri"/>
              </a:rPr>
              <a:t>There are several things that affect how fast a reaction can take place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Calibri"/>
              </a:rPr>
              <a:t>Types of sub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Certain substances will not react quickly because of differences in their structur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Calibri"/>
              </a:rPr>
              <a:t>Temper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Heating a mixture of reactants usually speeds up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Calibri"/>
              </a:rPr>
              <a:t>Chemical Reacti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Calibri"/>
              </a:rPr>
              <a:t>Agi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Stirring a mixture of reactants causes them to come into contact with each other more often and speeds up the rea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Calibri"/>
              </a:rPr>
              <a:t>Surface ar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Crushing a substance gives more space for the substance to rea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Calibri"/>
              </a:rPr>
              <a:t>Chemical Reacti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Concent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If there is more of a substance present, it is easier for it to react</a:t>
            </a:r>
            <a:r>
              <a:rPr b="0" lang="en-US" sz="24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Cataly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Substances added to a chemical reaction to speed it up (are not used up in the reaction and do not alter the reacting substances in any wa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4T17:39:36Z</dcterms:created>
  <dc:creator>EndUser</dc:creator>
  <dc:description/>
  <dc:language>en-US</dc:language>
  <cp:lastModifiedBy>EndUser</cp:lastModifiedBy>
  <dcterms:modified xsi:type="dcterms:W3CDTF">2009-02-04T17:42:38Z</dcterms:modified>
  <cp:revision>2</cp:revision>
  <dc:subject/>
  <dc:title>Chemical Reactions</dc:title>
</cp:coreProperties>
</file>